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9A8-9D84-4653-B706-E9C811E9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74D-AA68-4D94-A760-0BEBF10D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4EC-3779-4BA4-941A-AAB65E31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6DE-FD83-4083-BA1F-FD34392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903-4C77-45F8-B9D5-C823320D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38F-FA3E-4863-BF5F-4C70DB5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462-2BE9-4C9F-B538-66F69F5E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5E2-78BF-44AE-A3FC-6D9B434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1DA-06C5-4ABF-8CA8-276B952F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1F3-96EF-4FB5-9789-AEE10AA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953-51D5-4FAA-A103-725AD562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3B2-2D95-4639-ABF5-2F3197A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224C-61CD-45F6-B570-58768471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y Este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Bander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62440" y="1600200"/>
            <a:ext cx="415296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343400" cy="2895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480060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razi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91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6:33Z</dcterms:created>
  <dc:creator>WSFCS Workstation</dc:creator>
  <dc:description/>
  <dc:language>en-US</dc:language>
  <cp:lastModifiedBy>WSFCS Workstation</cp:lastModifiedBy>
  <dcterms:modified xsi:type="dcterms:W3CDTF">2010-04-26T19:00:08Z</dcterms:modified>
  <cp:revision>3</cp:revision>
  <dc:subject/>
  <dc:title>La clase de Espanol </dc:title>
</cp:coreProperties>
</file>